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E216-67D5-495A-8563-5570E987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BB4-1477-4D75-BAAA-DD59B69B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8A4-CB83-49B9-8C24-E4AF265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235-4823-48FB-8CFE-685A17E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294-56B2-43CD-9334-ECD85A02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6A4-CAFF-4681-BBA1-CA93250F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C09-A603-4B1D-A13D-2D3A654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A35-E29E-48AE-BA66-CD550E3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8AE-5EE7-43CC-A856-B155951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A0C-B3A2-440A-8190-503A057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05D-B9F6-4837-8002-0EAFE8CD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6B4-4A72-43DE-A051-F8C201D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8D5-8651-4806-809A-84A6CC4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147-7F14-4B10-B29B-427FA6F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F506-6C2E-485B-AC78-C6195E66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80880"/>
            <a:ext cx="396216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80880" y="594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876920" y="380880"/>
            <a:ext cx="1447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648320" y="1890720"/>
            <a:ext cx="419076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act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ium does not react with air, even under extreme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State: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: Non-metal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ed by: Sir William Ram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: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 London,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: filling balloons, cooling medium for nuclear reactors, &amp; pressurizing liquid fuel ro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952880" y="6400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yla Stansb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8088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4724280" y="304920"/>
            <a:ext cx="114300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Emma's first birthday balloon is filled with helium and so rises in air."/>
          <p:cNvPicPr/>
          <p:nvPr/>
        </p:nvPicPr>
        <p:blipFill>
          <a:blip r:embed="rId1"/>
          <a:stretch/>
        </p:blipFill>
        <p:spPr>
          <a:xfrm>
            <a:off x="304920" y="380880"/>
            <a:ext cx="396216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6172200" y="533520"/>
            <a:ext cx="2971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095880" y="4572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uclear reactor2.jpg"/>
          <p:cNvPicPr/>
          <p:nvPr/>
        </p:nvPicPr>
        <p:blipFill>
          <a:blip r:embed="rId2"/>
          <a:stretch/>
        </p:blipFill>
        <p:spPr>
          <a:xfrm>
            <a:off x="6477120" y="4114800"/>
            <a:ext cx="2350800" cy="235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VNN0SCAZLRBI6CAQJO1SLCAI8658OCASJYB3JCA97E8E3CAKGR4VHCAXAXNQFCA20JB62CA3HMKTZCAHKXV16CA6FWLCZCA0WTRL2CAJS85HMCAZQF2BACA3WDMFFCACGYHNPCA57BKI0CA0FN8SOCATCQ0QF.jpg"/>
          <p:cNvPicPr/>
          <p:nvPr/>
        </p:nvPicPr>
        <p:blipFill>
          <a:blip r:embed="rId3"/>
          <a:stretch/>
        </p:blipFill>
        <p:spPr>
          <a:xfrm>
            <a:off x="304920" y="4267080"/>
            <a:ext cx="3062160" cy="230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elium-ballong-flyg-220.jpg"/>
          <p:cNvPicPr/>
          <p:nvPr/>
        </p:nvPicPr>
        <p:blipFill>
          <a:blip r:embed="rId4"/>
          <a:stretch/>
        </p:blipFill>
        <p:spPr>
          <a:xfrm>
            <a:off x="0" y="3049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blimps.jpg"/>
          <p:cNvPicPr/>
          <p:nvPr/>
        </p:nvPicPr>
        <p:blipFill>
          <a:blip r:embed="rId5"/>
          <a:stretch/>
        </p:blipFill>
        <p:spPr>
          <a:xfrm>
            <a:off x="1752480" y="2209680"/>
            <a:ext cx="2057400" cy="15462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7" descr=""/>
          <p:cNvPicPr/>
          <p:nvPr/>
        </p:nvPicPr>
        <p:blipFill>
          <a:blip r:embed="rId6"/>
          <a:stretch/>
        </p:blipFill>
        <p:spPr>
          <a:xfrm>
            <a:off x="2889360" y="12600"/>
            <a:ext cx="6035400" cy="12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nuclear reactor.jpg"/>
          <p:cNvPicPr/>
          <p:nvPr/>
        </p:nvPicPr>
        <p:blipFill>
          <a:blip r:embed="rId7"/>
          <a:stretch/>
        </p:blipFill>
        <p:spPr>
          <a:xfrm>
            <a:off x="4724280" y="4495680"/>
            <a:ext cx="25909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6:28:15Z</dcterms:created>
  <dc:creator>ecofs165</dc:creator>
  <dc:description/>
  <dc:language>en-US</dc:language>
  <cp:lastModifiedBy>rtc11</cp:lastModifiedBy>
  <cp:lastPrinted>2004-01-30T14:35:58Z</cp:lastPrinted>
  <dcterms:modified xsi:type="dcterms:W3CDTF">2010-07-27T14:11:59Z</dcterms:modified>
  <cp:revision>12</cp:revision>
  <dc:subject/>
  <dc:title>PowerPoint Presentation</dc:title>
</cp:coreProperties>
</file>